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B5CA-D9F0-46F4-9B5B-3634375E2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9048-8E18-4246-A0FB-28B79477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664-175C-42AD-A646-8E93B87F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020-6B6C-45E2-AF4A-94DE0878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634-8750-4512-B2CF-66E3195D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9A6-3F7F-444C-84D9-F76A03A8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725-C2F9-4A5C-AB35-31F6F9D7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6A9-E87E-49AE-83A0-0D6EB67D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3BC-E69B-47B5-967D-58AA68F7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A8A-1D38-4FED-90F0-4CDA43E5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E0F-43F6-41EB-BDB4-47188BF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8BE-EC6E-4AF7-A208-B6570CE4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892-20E9-4D9D-809E-5F3B9D1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D37-8A0C-4552-B12A-403BCA6D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177-CC33-47B0-950D-6D63B22C7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30"/>
          <p:cNvSpPr/>
          <p:nvPr/>
        </p:nvSpPr>
        <p:spPr>
          <a:xfrm>
            <a:off x="539640" y="2781360"/>
            <a:ext cx="781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怎样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8"/>
          <p:cNvGrpSpPr/>
          <p:nvPr/>
        </p:nvGrpSpPr>
        <p:grpSpPr>
          <a:xfrm>
            <a:off x="826920" y="1268280"/>
            <a:ext cx="7540920" cy="4465800"/>
            <a:chOff x="826920" y="1268280"/>
            <a:chExt cx="7540920" cy="4465800"/>
          </a:xfrm>
        </p:grpSpPr>
        <p:sp>
          <p:nvSpPr>
            <p:cNvPr id="115" name="圆角矩形 9"/>
            <p:cNvSpPr/>
            <p:nvPr/>
          </p:nvSpPr>
          <p:spPr>
            <a:xfrm>
              <a:off x="826920" y="1268280"/>
              <a:ext cx="7540920" cy="4465800"/>
            </a:xfrm>
            <a:prstGeom prst="roundRect">
              <a:avLst>
                <a:gd name="adj" fmla="val 16667"/>
              </a:avLst>
            </a:prstGeom>
            <a:solidFill>
              <a:srgbClr val="93cdd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圆角矩形 10"/>
            <p:cNvSpPr/>
            <p:nvPr/>
          </p:nvSpPr>
          <p:spPr>
            <a:xfrm>
              <a:off x="1107720" y="1472760"/>
              <a:ext cx="6976080" cy="400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187280" y="321300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最后：选择和运用的材料要符合实际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：在伸手不见五指的夜晚，我坐在门边，拿着妈妈给我缝制的衣服，眼睛模糊了，但针脚却是那样清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1258920" y="1654200"/>
            <a:ext cx="6692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次：从报纸上、书上、网上、电视上，看到的、查到的资料，都没有发生在我们身上不能用到作文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2158920" y="7588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以“说说咱们班”为题进行选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971640" y="13604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材料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咱们班老师优秀，个个都是教书育人的楷模；咱们班的学生勤奋，人人都是刻苦学习的典型；咱们班班风良好，次次受到学校的表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988920" y="2614680"/>
            <a:ext cx="72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材料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咱们班有“八大族”。“睡仙一族”，每晚挑灯夜战，鏖战“题海”，白天却云里雾里，昏昏欲睡；“神侃一族”，课间“猛侃”，饭后“神侃”，寝室熄灯后“瞎侃”；“追星一族”，将明星的轶闻趣事津津乐道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文一族” “数学一族”等也各有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6"/>
          <p:cNvGrpSpPr/>
          <p:nvPr/>
        </p:nvGrpSpPr>
        <p:grpSpPr>
          <a:xfrm>
            <a:off x="1042920" y="4621320"/>
            <a:ext cx="7201080" cy="1160280"/>
            <a:chOff x="1042920" y="4621320"/>
            <a:chExt cx="7201080" cy="1160280"/>
          </a:xfrm>
        </p:grpSpPr>
        <p:sp>
          <p:nvSpPr>
            <p:cNvPr id="125" name="矩形 7"/>
            <p:cNvSpPr/>
            <p:nvPr/>
          </p:nvSpPr>
          <p:spPr>
            <a:xfrm>
              <a:off x="1042920" y="4621320"/>
              <a:ext cx="7201080" cy="113652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8"/>
            <p:cNvSpPr/>
            <p:nvPr/>
          </p:nvSpPr>
          <p:spPr>
            <a:xfrm flipH="1">
              <a:off x="6883200" y="5189400"/>
              <a:ext cx="1360440" cy="592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6"/>
          <p:cNvSpPr/>
          <p:nvPr/>
        </p:nvSpPr>
        <p:spPr>
          <a:xfrm>
            <a:off x="1042920" y="46562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第一则材料存在着美化人物、编造故事的毛病，缺乏感染力；第二则材料原汁原味，真实可信，具有浓厚的生活气息，具有较强的感染力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556000" y="1125360"/>
            <a:ext cx="45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四、文章选材要关注热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12760" y="2060640"/>
            <a:ext cx="6843960" cy="3313080"/>
          </a:xfrm>
          <a:prstGeom prst="rect">
            <a:avLst/>
          </a:prstGeom>
          <a:ln w="0">
            <a:noFill/>
          </a:ln>
        </p:spPr>
      </p:pic>
      <p:sp>
        <p:nvSpPr>
          <p:cNvPr id="131" name="矩形 2"/>
          <p:cNvSpPr/>
          <p:nvPr/>
        </p:nvSpPr>
        <p:spPr>
          <a:xfrm>
            <a:off x="1216080" y="2292480"/>
            <a:ext cx="674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们生活的时代是个突飞猛进的时代，所以我们应该跟得上时代的脚步关注社会热点，把握时代脉搏，讴歌真善美，抨击假恶丑。当今社会像教育公平、打击假冒、保护环境等都是人们最为关心的热门话题。若能做到选取得法，必能出奇制胜。因此，文章选材时，一定要在围绕中心的基础上，使材料散发着浓烈的时代气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1311120" y="2141640"/>
            <a:ext cx="423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证明了未尽责任是人生最大的痛苦，尽责任是人生最大的快乐的论点，告诉我们不能躲避责任、苟且偷生，要勇于背负人生、社会的大责任，体会人生的快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1187280" y="836640"/>
            <a:ext cx="6686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们课本上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最苦与最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篇文章选入课本就是因为它具有时代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1019"/>
          <p:cNvPicPr/>
          <p:nvPr/>
        </p:nvPicPr>
        <p:blipFill>
          <a:blip r:embed="rId1"/>
          <a:stretch/>
        </p:blipFill>
        <p:spPr>
          <a:xfrm>
            <a:off x="5708520" y="1979640"/>
            <a:ext cx="2006640" cy="266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6" name="圆角矩形 5"/>
          <p:cNvSpPr/>
          <p:nvPr/>
        </p:nvSpPr>
        <p:spPr>
          <a:xfrm>
            <a:off x="1241280" y="1989000"/>
            <a:ext cx="4373640" cy="2664000"/>
          </a:xfrm>
          <a:prstGeom prst="roundRect">
            <a:avLst>
              <a:gd name="adj" fmla="val 163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1211400" y="4797360"/>
            <a:ext cx="720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最近世界杯期间，各大报纸和电视都在播报有关世界杯的赛况，因为这些事都是大家所关注的热点。是热点，人们才喜欢去看，愿意去听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042920" y="1050840"/>
            <a:ext cx="734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围绕 “母爱”这个主题，你选择哪些材料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．我在学校生病了，委屈地跑回家，母亲说：“学校条件太差了，就在家治好了再去上学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．我跌倒了，母亲没有扶我起来，却说：“你是个勇敢的孩子，自己跌倒自己爬起来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．我悄悄把别人的文具盒拿回家，母亲看见了，狠狠地教训了我一顿，然后要我连夜送回别人家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．母亲在街上看见一个小偷，不顾个人安危，把他扭送到派出所去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．母亲从不私拆我的信件，也不干涉我的交往，但却经常注意我与什么样的人往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3419640" y="588960"/>
            <a:ext cx="37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尝试一下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3276720" y="447840"/>
            <a:ext cx="368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你选对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000" y="1341360"/>
            <a:ext cx="76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虽然是母爱，但是母亲的溺爱不是我们应该选的题材，所以不能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围绕中心，而且深刻。母亲独特的爱，是一种新颖的爱的方式，多下笔墨能成为好的材料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材虽然是母爱，但太多人写，写不出自己的特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母爱无关的材料，实际该材料是说的母亲见义勇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母爱的一种既尊重孩子，又关心孩子的新材料，很少有人写，此材料容易得高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3"/>
          <p:cNvGrpSpPr/>
          <p:nvPr/>
        </p:nvGrpSpPr>
        <p:grpSpPr>
          <a:xfrm>
            <a:off x="779400" y="887400"/>
            <a:ext cx="1714680" cy="498600"/>
            <a:chOff x="779400" y="887400"/>
            <a:chExt cx="1714680" cy="498600"/>
          </a:xfrm>
        </p:grpSpPr>
        <p:sp>
          <p:nvSpPr>
            <p:cNvPr id="146" name="流程图: 文档 3"/>
            <p:cNvSpPr/>
            <p:nvPr/>
          </p:nvSpPr>
          <p:spPr>
            <a:xfrm>
              <a:off x="779400" y="933480"/>
              <a:ext cx="1672200" cy="452520"/>
            </a:xfrm>
            <a:prstGeom prst="flowChartDocument">
              <a:avLst/>
            </a:prstGeom>
            <a:solidFill>
              <a:srgbClr val="222268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4101"/>
            <p:cNvSpPr/>
            <p:nvPr/>
          </p:nvSpPr>
          <p:spPr>
            <a:xfrm>
              <a:off x="779400" y="887400"/>
              <a:ext cx="171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小试牛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2"/>
          <p:cNvSpPr/>
          <p:nvPr/>
        </p:nvSpPr>
        <p:spPr>
          <a:xfrm>
            <a:off x="725400" y="14320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们班一定有不少“牛人吧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他们或是“读书迷”，知识丰富；或是“演说家”，善于表达；或是班里的“大管家”，热心集体事务；或许还有体育健将，乐器高手，智力超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晒晒我们班的“牛人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题，写一篇作文。不少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773280" y="3368520"/>
            <a:ext cx="784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以只写一位“牛人”，选取最能表现其“牛”的材料，突出其特点；如果这个人很多方面都“牛”，就要注意分清主次、详略，合理安排。也可以写几位“牛人”，每位牛人只写一件事，但要突出他们各自不同的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言可以诙谐、幽默一些，甚至带点调侃的味道，这样会增加文章的趣味性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1323720" y="3013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"/>
          <p:cNvSpPr/>
          <p:nvPr/>
        </p:nvSpPr>
        <p:spPr>
          <a:xfrm>
            <a:off x="611280" y="765000"/>
            <a:ext cx="547344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晒晒我们班的牛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们班可是集尽天下英雄之地，各路英雄才华横溢武功盖世。现在我就晒晒我们班的牛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天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---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寇高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起寇高阁，我们班的同学没有不心生仰慕的。他文韬武略样样精通。一次，上地理课时，老师让我们回答问题，提问的话音刚落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他的答案便脱口而出，满怀自信的眼神让人羡慕。老师卖了一回儿关子说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只见寇高阁满脸微笑，心花怒放。如此镜头就这样循环下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没办法，只要有他在，哪里有我们说话的份。老师们见了他，都竖起大拇指，连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3"/>
          <p:cNvSpPr/>
          <p:nvPr/>
        </p:nvSpPr>
        <p:spPr>
          <a:xfrm>
            <a:off x="6084720" y="1230480"/>
            <a:ext cx="71640" cy="4824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"/>
          <p:cNvSpPr/>
          <p:nvPr/>
        </p:nvSpPr>
        <p:spPr>
          <a:xfrm>
            <a:off x="6300720" y="1484280"/>
            <a:ext cx="1943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标注 2"/>
          <p:cNvSpPr/>
          <p:nvPr/>
        </p:nvSpPr>
        <p:spPr>
          <a:xfrm>
            <a:off x="6516720" y="1125360"/>
            <a:ext cx="1368360" cy="358920"/>
          </a:xfrm>
          <a:prstGeom prst="wedgeRoundRectCallout">
            <a:avLst>
              <a:gd name="adj1" fmla="val -80722"/>
              <a:gd name="adj2" fmla="val 4909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篇点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标注 6"/>
          <p:cNvSpPr/>
          <p:nvPr/>
        </p:nvSpPr>
        <p:spPr>
          <a:xfrm>
            <a:off x="6300720" y="3500280"/>
            <a:ext cx="2232000" cy="1513080"/>
          </a:xfrm>
          <a:prstGeom prst="wedgeRoundRectCallout">
            <a:avLst>
              <a:gd name="adj1" fmla="val -57319"/>
              <a:gd name="adj2" fmla="val -5163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一位“牛人”最显著的特点“文韬武略样样精通”，真是位“小天才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539640" y="692280"/>
            <a:ext cx="568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称赞。这时候他是玫瑰，我们这些绿叶只需点缀，衬托一下就行了。每次看到小巧玲珑的他，就想了那句：浓缩的都是精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铁嘴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----------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刘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刘志在我们班是叱吒风云的人物，他油嘴滑舌，经常用他的谬论与老师斗个你死我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，上政治课的时候，他在下面小憩。老师见状蹑手蹑脚走到他身边。刘志哪里知道老师就在身后，感觉不对，扭头一看，吓了一跳，质问老师：“你上课不好好上课，乱转什么呀，吓得我魂都丢了。”“你在干什么呢？”“我在养精蓄锐。”对待铁嘴刘志，老师也无可奈何，只好让他面壁思过去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们班的牛人还有很多，想一睹其牛事吗？且待下回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3"/>
          <p:cNvSpPr/>
          <p:nvPr/>
        </p:nvSpPr>
        <p:spPr>
          <a:xfrm>
            <a:off x="6084720" y="736560"/>
            <a:ext cx="71640" cy="46213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"/>
          <p:cNvSpPr/>
          <p:nvPr/>
        </p:nvSpPr>
        <p:spPr>
          <a:xfrm>
            <a:off x="549360" y="54133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点评：小作者以幽默的笔调展示了本班学生的风采，内容真实，人物形象鲜明结尾语言简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标注 5"/>
          <p:cNvSpPr/>
          <p:nvPr/>
        </p:nvSpPr>
        <p:spPr>
          <a:xfrm>
            <a:off x="6310440" y="1989000"/>
            <a:ext cx="2232000" cy="1079640"/>
          </a:xfrm>
          <a:prstGeom prst="wedgeRoundRectCallout">
            <a:avLst>
              <a:gd name="adj1" fmla="val -57319"/>
              <a:gd name="adj2" fmla="val -5163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二位“牛人”最显著的特点“铁嘴巴”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508800" cy="48765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1"/>
          <p:cNvSpPr/>
          <p:nvPr/>
        </p:nvSpPr>
        <p:spPr>
          <a:xfrm>
            <a:off x="2771640" y="1889280"/>
            <a:ext cx="453708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 Same Side Corner Rectangle 22"/>
          <p:cNvSpPr/>
          <p:nvPr/>
        </p:nvSpPr>
        <p:spPr>
          <a:xfrm>
            <a:off x="3201840" y="1635120"/>
            <a:ext cx="4526280" cy="647640"/>
          </a:xfrm>
          <a:custGeom>
            <a:avLst/>
            <a:gdLst/>
            <a:ahLst/>
            <a:rect l="l" t="t" r="r" b="b"/>
            <a:pathLst>
              <a:path w="4525963" h="647700">
                <a:moveTo>
                  <a:pt x="250446" y="0"/>
                </a:moveTo>
                <a:lnTo>
                  <a:pt x="4275517" y="0"/>
                </a:lnTo>
                <a:cubicBezTo>
                  <a:pt x="4413835" y="0"/>
                  <a:pt x="4525963" y="112128"/>
                  <a:pt x="4525963" y="250446"/>
                </a:cubicBezTo>
                <a:lnTo>
                  <a:pt x="4525963" y="647700"/>
                </a:lnTo>
                <a:lnTo>
                  <a:pt x="4525963" y="647700"/>
                </a:lnTo>
                <a:lnTo>
                  <a:pt x="0" y="647700"/>
                </a:lnTo>
                <a:lnTo>
                  <a:pt x="0" y="647700"/>
                </a:lnTo>
                <a:lnTo>
                  <a:pt x="0" y="250446"/>
                </a:lnTo>
                <a:cubicBezTo>
                  <a:pt x="0" y="112128"/>
                  <a:pt x="112128" y="0"/>
                  <a:pt x="250446" y="0"/>
                </a:cubicBezTo>
                <a:close/>
              </a:path>
            </a:pathLst>
          </a:custGeom>
          <a:gradFill rotWithShape="0">
            <a:gsLst>
              <a:gs pos="0">
                <a:srgbClr val="19669e"/>
              </a:gs>
              <a:gs pos="100000">
                <a:srgbClr val="32b2ff"/>
              </a:gs>
            </a:gsLst>
            <a:lin ang="5400000"/>
          </a:gra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2840040" y="3648240"/>
            <a:ext cx="2816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文章选材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3"/>
          <p:cNvGrpSpPr/>
          <p:nvPr/>
        </p:nvGrpSpPr>
        <p:grpSpPr>
          <a:xfrm>
            <a:off x="779400" y="887400"/>
            <a:ext cx="1714680" cy="498600"/>
            <a:chOff x="779400" y="887400"/>
            <a:chExt cx="1714680" cy="498600"/>
          </a:xfrm>
        </p:grpSpPr>
        <p:sp>
          <p:nvSpPr>
            <p:cNvPr id="168" name="流程图: 文档 4"/>
            <p:cNvSpPr/>
            <p:nvPr/>
          </p:nvSpPr>
          <p:spPr>
            <a:xfrm>
              <a:off x="779400" y="933480"/>
              <a:ext cx="1672200" cy="452520"/>
            </a:xfrm>
            <a:prstGeom prst="flowChartDocument">
              <a:avLst/>
            </a:prstGeom>
            <a:solidFill>
              <a:srgbClr val="222268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4101"/>
            <p:cNvSpPr/>
            <p:nvPr/>
          </p:nvSpPr>
          <p:spPr>
            <a:xfrm>
              <a:off x="779400" y="887400"/>
              <a:ext cx="171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课堂小结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1"/>
          <p:cNvSpPr/>
          <p:nvPr/>
        </p:nvSpPr>
        <p:spPr>
          <a:xfrm>
            <a:off x="5104440" y="16574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  <a:ea typeface="宋体"/>
              </a:rPr>
              <a:t>怎样选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左大括号 1"/>
          <p:cNvSpPr/>
          <p:nvPr/>
        </p:nvSpPr>
        <p:spPr>
          <a:xfrm>
            <a:off x="4635360" y="2781360"/>
            <a:ext cx="360360" cy="2376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376360"/>
              <a:gd name="textAreaBottom" fmla="*/ 236700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5199840" y="27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依据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1"/>
          <p:cNvSpPr/>
          <p:nvPr/>
        </p:nvSpPr>
        <p:spPr>
          <a:xfrm>
            <a:off x="5098680" y="33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5100480" y="387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真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"/>
          <p:cNvSpPr/>
          <p:nvPr/>
        </p:nvSpPr>
        <p:spPr>
          <a:xfrm>
            <a:off x="5201640" y="461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注热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1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715720" y="1484280"/>
            <a:ext cx="18867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：抓耳挠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落笔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66880" y="1484280"/>
            <a:ext cx="27399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：胡编生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文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460680" y="8794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批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：无米之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4067280" y="3216240"/>
            <a:ext cx="1770120" cy="1506600"/>
          </a:xfrm>
          <a:prstGeom prst="smileyFace">
            <a:avLst>
              <a:gd name="adj" fmla="val -46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50920" y="243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"/>
          <p:cNvGrpSpPr/>
          <p:nvPr/>
        </p:nvGrpSpPr>
        <p:grpSpPr>
          <a:xfrm>
            <a:off x="779400" y="887400"/>
            <a:ext cx="1714680" cy="498600"/>
            <a:chOff x="779400" y="887400"/>
            <a:chExt cx="1714680" cy="498600"/>
          </a:xfrm>
        </p:grpSpPr>
        <p:sp>
          <p:nvSpPr>
            <p:cNvPr id="61" name="流程图: 文档 5"/>
            <p:cNvSpPr/>
            <p:nvPr/>
          </p:nvSpPr>
          <p:spPr>
            <a:xfrm>
              <a:off x="779400" y="933480"/>
              <a:ext cx="1672200" cy="452520"/>
            </a:xfrm>
            <a:prstGeom prst="flowChartDocument">
              <a:avLst/>
            </a:prstGeom>
            <a:solidFill>
              <a:srgbClr val="222268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4101"/>
            <p:cNvSpPr/>
            <p:nvPr/>
          </p:nvSpPr>
          <p:spPr>
            <a:xfrm>
              <a:off x="779400" y="887400"/>
              <a:ext cx="171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3"/>
          <p:cNvSpPr/>
          <p:nvPr/>
        </p:nvSpPr>
        <p:spPr>
          <a:xfrm>
            <a:off x="755640" y="1916280"/>
            <a:ext cx="784872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了解作文在选材方面的具体要求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导学生分析作文选材常出现的问题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掌握作文选材的方法和技巧，提高学生的选材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2" descr=""/>
          <p:cNvPicPr/>
          <p:nvPr/>
        </p:nvPicPr>
        <p:blipFill>
          <a:blip r:embed="rId1"/>
          <a:stretch/>
        </p:blipFill>
        <p:spPr>
          <a:xfrm>
            <a:off x="1403280" y="1374840"/>
            <a:ext cx="6553440" cy="2763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9"/>
          <p:cNvSpPr/>
          <p:nvPr/>
        </p:nvSpPr>
        <p:spPr>
          <a:xfrm>
            <a:off x="3419640" y="836640"/>
            <a:ext cx="3019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34560" bIns="345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什么是选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1720800" y="1908000"/>
            <a:ext cx="58755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就是根据主旨的需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目的的选择恰当的材料来表现主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文章产生最好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1258920" y="4292640"/>
            <a:ext cx="6918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那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怎样围绕主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很好地为一篇文章选材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结合平时的教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觉得应从以下四个方面入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879720" y="627120"/>
            <a:ext cx="3019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34560" bIns="345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经典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4224240" y="1152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阿长与〈山海经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657760" y="1127160"/>
            <a:ext cx="2664000" cy="2597040"/>
          </a:xfrm>
          <a:prstGeom prst="rect">
            <a:avLst/>
          </a:prstGeom>
          <a:ln w="0">
            <a:noFill/>
          </a:ln>
        </p:spPr>
      </p:pic>
      <p:sp>
        <p:nvSpPr>
          <p:cNvPr id="73" name="矩形 6"/>
          <p:cNvSpPr/>
          <p:nvPr/>
        </p:nvSpPr>
        <p:spPr>
          <a:xfrm>
            <a:off x="2098800" y="1747800"/>
            <a:ext cx="457200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阿长称呼的来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旦吃福橘说恭喜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教我令人厌烦的种种规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.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切切察察”的毛病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.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谋杀”我的隐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摆成“大”字的睡相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.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毛”的往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给我买心仪已久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山海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7"/>
          <p:cNvSpPr/>
          <p:nvPr/>
        </p:nvSpPr>
        <p:spPr>
          <a:xfrm flipH="1">
            <a:off x="1909800" y="1922400"/>
            <a:ext cx="285840" cy="2509920"/>
          </a:xfrm>
          <a:custGeom>
            <a:avLst/>
            <a:gdLst>
              <a:gd name="textAreaLeft" fmla="*/ 360 w 285840"/>
              <a:gd name="textAreaRight" fmla="*/ 103680 w 285840"/>
              <a:gd name="textAreaTop" fmla="*/ 79920 h 2509920"/>
              <a:gd name="textAreaBottom" fmla="*/ 2430000 h 250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0"/>
                  <a:pt x="10800" y="2199"/>
                </a:cubicBezTo>
                <a:lnTo>
                  <a:pt x="10800" y="8360"/>
                </a:lnTo>
                <a:cubicBezTo>
                  <a:pt x="10800" y="9460"/>
                  <a:pt x="16200" y="10559"/>
                  <a:pt x="21600" y="10559"/>
                </a:cubicBezTo>
                <a:cubicBezTo>
                  <a:pt x="16200" y="10559"/>
                  <a:pt x="10800" y="11659"/>
                  <a:pt x="10800" y="12758"/>
                </a:cubicBezTo>
                <a:lnTo>
                  <a:pt x="10800" y="19401"/>
                </a:lnTo>
                <a:cubicBezTo>
                  <a:pt x="10800" y="205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8"/>
          <p:cNvSpPr/>
          <p:nvPr/>
        </p:nvSpPr>
        <p:spPr>
          <a:xfrm>
            <a:off x="324000" y="4581360"/>
            <a:ext cx="1751040" cy="70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9"/>
          <p:cNvSpPr/>
          <p:nvPr/>
        </p:nvSpPr>
        <p:spPr>
          <a:xfrm>
            <a:off x="250920" y="1916280"/>
            <a:ext cx="1753920" cy="82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铺垫补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0"/>
          <p:cNvSpPr/>
          <p:nvPr/>
        </p:nvSpPr>
        <p:spPr>
          <a:xfrm>
            <a:off x="468000" y="465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11"/>
          <p:cNvSpPr/>
          <p:nvPr/>
        </p:nvSpPr>
        <p:spPr>
          <a:xfrm>
            <a:off x="971640" y="2924280"/>
            <a:ext cx="720720" cy="1584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584360"/>
              <a:gd name="textAreaBottom" fmla="*/ 1549440 h 1584360"/>
            </a:gdLst>
            <a:ahLst/>
            <a:rect l="textAreaLeft" t="textAreaTop" r="textAreaRight" b="textAreaBottom"/>
            <a:pathLst>
              <a:path w="21600" h="47470">
                <a:moveTo>
                  <a:pt x="3600" y="0"/>
                </a:moveTo>
                <a:arcTo wR="3600" hR="3600" stAng="16200000" swAng="-5400000"/>
                <a:lnTo>
                  <a:pt x="0" y="43870"/>
                </a:lnTo>
                <a:arcTo wR="3600" hR="3600" stAng="10800000" swAng="-5400000"/>
                <a:lnTo>
                  <a:pt x="18000" y="474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021360" y="4748040"/>
            <a:ext cx="504720" cy="144720"/>
          </a:xfrm>
          <a:prstGeom prst="rightArrow">
            <a:avLst>
              <a:gd name="adj1" fmla="val 50000"/>
              <a:gd name="adj2" fmla="val 2317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7000" bIns="27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1"/>
          <p:cNvSpPr/>
          <p:nvPr/>
        </p:nvSpPr>
        <p:spPr>
          <a:xfrm>
            <a:off x="7020000" y="3573360"/>
            <a:ext cx="19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阿长不无愚昧，但她对“我”的无私关怀，永远让“我”感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963960" y="1825560"/>
            <a:ext cx="28684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写作中详略安排的意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学习有详有略详略得当地写人记事的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576520" y="625320"/>
            <a:ext cx="45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一、依据中心，进行选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1050840" y="1305000"/>
            <a:ext cx="781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阿长称呼的来历；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旦吃福橘说恭喜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教我令人厌烦的种种规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4.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切切察察”的毛病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.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谋杀”我的隐鼠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      6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摆成“大”字的睡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.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毛”的往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;        8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给我买心仪已久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山海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927000" y="3289320"/>
            <a:ext cx="80582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依据下列中心，判断上述事情哪件该详哪件该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742080" y="1189080"/>
            <a:ext cx="155412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870120" y="3816360"/>
            <a:ext cx="799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表现旧社会劳动人民地位低下，不被人重视 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0"/>
          <p:cNvSpPr/>
          <p:nvPr/>
        </p:nvSpPr>
        <p:spPr>
          <a:xfrm>
            <a:off x="1050840" y="1344600"/>
            <a:ext cx="309600" cy="480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0"/>
          <p:cNvSpPr/>
          <p:nvPr/>
        </p:nvSpPr>
        <p:spPr>
          <a:xfrm>
            <a:off x="4179960" y="1344600"/>
            <a:ext cx="309600" cy="480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900000" y="4330800"/>
            <a:ext cx="93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表现农村妇女生活虽苦，但仍有着对生活的美好向往和愿望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644400" y="475776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详写就是对能突出中心的事件或环节进行具体的描写或叙述，要敢于放手写，细致刻画，充分展现作者所观所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601560" y="5464080"/>
            <a:ext cx="83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略写就是对次要的、与中心有关但联系不是特别紧密的内容，进行概括式的描述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576520" y="625320"/>
            <a:ext cx="45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二、文章选材贵在新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820800" y="1065240"/>
            <a:ext cx="7562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所谓新颖，并非是那些轰轰烈烈的大事或一般人尚未知晓的新鲜事，也可以是日常生活中的平凡小事。滴水藏金，巧妙挖掘，就可以写出感人肺腑的佳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1187280" y="5148360"/>
            <a:ext cx="7356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躬行君子、堪为师表的忠厚长者，独具而可贵的精神风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219040" y="2552760"/>
            <a:ext cx="27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张中行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叶圣陶先生二三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文中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1"/>
          <p:cNvPicPr/>
          <p:nvPr/>
        </p:nvPicPr>
        <p:blipFill>
          <a:blip r:embed="rId1"/>
          <a:stretch/>
        </p:blipFill>
        <p:spPr>
          <a:xfrm>
            <a:off x="6010200" y="2146320"/>
            <a:ext cx="2292480" cy="2846520"/>
          </a:xfrm>
          <a:prstGeom prst="rect">
            <a:avLst/>
          </a:prstGeom>
          <a:ln w="0">
            <a:noFill/>
          </a:ln>
        </p:spPr>
      </p:pic>
      <p:sp>
        <p:nvSpPr>
          <p:cNvPr id="99" name="矩形 3"/>
          <p:cNvSpPr/>
          <p:nvPr/>
        </p:nvSpPr>
        <p:spPr>
          <a:xfrm>
            <a:off x="1463760" y="3887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精心选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左大括号 4"/>
          <p:cNvSpPr/>
          <p:nvPr/>
        </p:nvSpPr>
        <p:spPr>
          <a:xfrm>
            <a:off x="2398680" y="3260880"/>
            <a:ext cx="142920" cy="1655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655640"/>
              <a:gd name="textAreaBottom" fmla="*/ 165204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928960" y="32385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叶圣陶先生为人宽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1"/>
          <p:cNvSpPr/>
          <p:nvPr/>
        </p:nvSpPr>
        <p:spPr>
          <a:xfrm>
            <a:off x="2892600" y="42670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叶圣陶先生严于律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985080" cy="375588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627280" y="825480"/>
            <a:ext cx="45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三、文章选材要真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467000" y="2133720"/>
            <a:ext cx="8018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982880" y="1989000"/>
            <a:ext cx="518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谓真实，就是选择的材料应是实实在在的真事，是自己亲眼看到、亲耳听到、亲身经历过的事情。所谓真实，还应该是说真话、吐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1547640" y="1557360"/>
            <a:ext cx="5761080" cy="6094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 rot="10800000">
            <a:off x="826560" y="2277720"/>
            <a:ext cx="7417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444760" y="8967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何做到材料选择真实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26920" y="2205000"/>
            <a:ext cx="734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睁大眼睛观察我们周围的人事物景，用眼睛拍摄下一幅幅美好的画面，留存在你的脑海里，用耳朵倾听世间美妙的声音。多留心自己亲身经历的一些校内、校外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1690560" y="16286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a"/>
                </a:solidFill>
                <a:latin typeface="Arial"/>
                <a:ea typeface="宋体"/>
              </a:rPr>
              <a:t>首先：要学会在生活中选取材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4T00:55:33Z</dcterms:created>
  <dc:creator/>
  <dc:description/>
  <dc:language>en-US</dc:language>
  <cp:lastModifiedBy/>
  <dcterms:modified xsi:type="dcterms:W3CDTF">2017-03-24T00:55:37Z</dcterms:modified>
  <cp:revision>1</cp:revision>
  <dc:subject/>
  <dc:title/>
</cp:coreProperties>
</file>